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CFD1-6B75-4639-816C-186B370F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F787-C7E8-4010-B898-30D7F3D9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A66A-6349-4C7A-B71F-D0D68A28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3B45-4999-4E5E-A723-B5401D50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5208-33BB-466E-809A-73198A61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577E-0034-4BE8-B7F1-38204175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3FEC-7249-4635-A565-1A791600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9647-5C32-474A-A63B-E92CC9DB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DEEF-F4C5-4BD1-813A-4BB462AF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EBFE-876F-41EE-8152-01DCA84C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A63F-0776-4637-8FAB-371BEDC4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EFA1-B97E-4CAB-9BAB-3B7FD81C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C955-1877-44B3-9D70-4F2FF5475376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2411280" y="189000"/>
            <a:ext cx="42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Istituto Nazionale di Astrofi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2244600" y="800280"/>
            <a:ext cx="46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sservatorio astronomico di Br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297000" y="1671480"/>
            <a:ext cx="202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Verdana"/>
                <a:ea typeface="Calibri"/>
              </a:rPr>
              <a:t>Universo in fi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8088120" y="6207120"/>
            <a:ext cx="476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Verdana"/>
                <a:ea typeface="Calibri"/>
              </a:rPr>
              <a:t>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1"/>
          <p:cNvSpPr/>
          <p:nvPr/>
        </p:nvSpPr>
        <p:spPr>
          <a:xfrm>
            <a:off x="2886840" y="2340000"/>
            <a:ext cx="33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ed3d7"/>
                </a:solidFill>
                <a:latin typeface="Verdana"/>
                <a:ea typeface="Calibri"/>
              </a:rPr>
              <a:t>Titolo interv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2"/>
          <p:cNvSpPr/>
          <p:nvPr/>
        </p:nvSpPr>
        <p:spPr>
          <a:xfrm>
            <a:off x="3386520" y="3432240"/>
            <a:ext cx="23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Calibri"/>
              </a:rPr>
              <a:t>Immagine a sce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2"/>
          <p:cNvSpPr/>
          <p:nvPr/>
        </p:nvSpPr>
        <p:spPr>
          <a:xfrm>
            <a:off x="2774520" y="5438880"/>
            <a:ext cx="3539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Verdana"/>
                <a:ea typeface="Calibri"/>
              </a:rPr>
              <a:t>Nome Cognome rela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Verdana"/>
                <a:ea typeface="Calibri"/>
              </a:rPr>
              <a:t>Indirizzo 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Verdana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Verdana"/>
                <a:ea typeface="Calibri"/>
              </a:rPr>
              <a:t>INAF-Osservatorio Astronomico di Br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ttangolo 3"/>
          <p:cNvSpPr/>
          <p:nvPr/>
        </p:nvSpPr>
        <p:spPr>
          <a:xfrm>
            <a:off x="0" y="0"/>
            <a:ext cx="9144000" cy="165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ttangolo 17"/>
          <p:cNvSpPr/>
          <p:nvPr/>
        </p:nvSpPr>
        <p:spPr>
          <a:xfrm>
            <a:off x="0" y="1413000"/>
            <a:ext cx="9144000" cy="164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magine 2" descr=""/>
          <p:cNvPicPr/>
          <p:nvPr/>
        </p:nvPicPr>
        <p:blipFill>
          <a:blip r:embed="rId1"/>
          <a:stretch/>
        </p:blipFill>
        <p:spPr>
          <a:xfrm>
            <a:off x="0" y="165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9"/>
          <p:cNvSpPr/>
          <p:nvPr/>
        </p:nvSpPr>
        <p:spPr>
          <a:xfrm>
            <a:off x="2100240" y="800280"/>
            <a:ext cx="628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sservatorio astronomico di Br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827480" y="6207120"/>
            <a:ext cx="1142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Verdana"/>
                <a:ea typeface="Calibri"/>
              </a:rPr>
              <a:t>Relatore ,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61800" y="6207120"/>
            <a:ext cx="1273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Verdana"/>
                <a:ea typeface="Calibri"/>
              </a:rPr>
              <a:t>Titolo interven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1:27:46Z</dcterms:created>
  <dc:creator>stefano sandrelli</dc:creator>
  <dc:description/>
  <dc:language>en-US</dc:language>
  <cp:lastModifiedBy>Ilaria Arosio</cp:lastModifiedBy>
  <dcterms:modified xsi:type="dcterms:W3CDTF">2011-09-29T12:18:59Z</dcterms:modified>
  <cp:revision>93</cp:revision>
  <dc:subject/>
  <dc:title>Diapositiva 1</dc:title>
</cp:coreProperties>
</file>